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4ADC-61B0-4BC3-9B82-660B604A411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22E3-7CFB-4822-A192-5F477B11C6A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E59E-FC22-4B37-97EC-E54527DB169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s://www.giss.nasa.gov/research/features/201311_ki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FFA1-83B6-4C5D-A339-2AEB1BDFCB9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31B-A565-496A-AA4F-305472574E6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lrrpublic.cli.det.nsw.edu.au/lrrSecure/Sites/LRRView/7397/applets/Living_Things_Database/livingthings/images/willow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E9CB-43B4-450D-8EC9-35947402825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3817-0164-476B-9408-9EEDFB3A957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8785-B6DD-40FA-90AC-05B3C995034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elman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experiments (1882);  stran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pirogyra (green alga), water, aerobic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C00-C94B-4C40-B502-63E50B46686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631E-A860-4348-BD38-DAB58739CF6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DFCD-9D13-4FCE-A137-59E3C426218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CBE0-94EB-4D2B-BBE3-EE9E4652FEA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69D9-69EF-405C-8557-A7ECC3F27C4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C8EE-00C0-4082-A621-B79CDC00BA6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774C-8249-4FA7-B332-DB4345AC100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160-270E-49E6-8B63-DD6F4ED5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50B-A0BC-4D27-8F80-AB4AC62F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B6B-FE8D-4BD4-97AE-0D435076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E9F-96E3-4EA2-839C-E6353A8E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A22-5754-469F-BA74-B62C40F3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A92-09A7-4ECE-9966-4F924C9F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BBF-A06B-47D1-A61E-35FC40BF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ED2-42CC-4FBF-B74F-8A7E53B8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C86-9CD5-4806-84F0-AB7672D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7F0-F583-4131-AD5B-0F243617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06A-F15D-4C51-8049-BF13E3F5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4E6-16C7-49BA-98B1-DF9E88F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AFA3-5632-4B34-81D4-F8768816A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1_uez5WX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-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1_uez5WX1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photosynth_summary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reen Leaves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0035023-Tea_leaf,_light_micrograph-SPL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toma1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hloroplastsfigure1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hlorophyll_a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romagnetic-spectrum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 a 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3" descr="fig3_324.jpg"/>
          <p:cNvPicPr/>
          <p:nvPr/>
        </p:nvPicPr>
        <p:blipFill>
          <a:blip r:embed="rId1"/>
          <a:srcRect l="-6112" t="0" r="-611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000000"/>
                </a:solidFill>
                <a:latin typeface="Arial"/>
              </a:rPr>
              <a:t>Jan Baptist van Helmont (1579-1644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ne of the first scientists to study what makes plants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inferred from these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willow.gif"/>
          <p:cNvPicPr/>
          <p:nvPr/>
        </p:nvPicPr>
        <p:blipFill>
          <a:blip r:embed="rId1"/>
          <a:stretch/>
        </p:blipFill>
        <p:spPr>
          <a:xfrm>
            <a:off x="971640" y="3619440"/>
            <a:ext cx="66960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Visible in the autumn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bsorption-spectrum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Fig1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photosystem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raph2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photosynthesis_equation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ergy from the Sun to synthesize complex organic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examples of photoautotrop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7-06-08T02:02:13Z</dcterms:modified>
  <cp:revision>109</cp:revision>
  <dc:subject/>
  <dc:title>Slide 1</dc:title>
</cp:coreProperties>
</file>